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3F6-4BDB-4D52-A30D-47C75DBF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490-6BE7-47F7-BF07-FDD7E58C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A18-3B28-4FEB-BFD0-D987E8CD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B80-9426-4025-A990-A7565BC8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7E8-1287-443C-A9C6-6959A567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237-BA0F-4AD9-A2A3-CFA09566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625-F54E-4930-A6CC-D678A911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70C-F706-4814-8149-E0742761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D01-8552-47A3-8551-F328511B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298-1158-4676-B9F2-A51D449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463-5CDC-4299-B5C1-26196CE9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A08-36DF-447E-BBF4-D7828839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0ECC-71B8-4D83-AD4B-41A0EAE89F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9BF3-859A-45C5-A20C-BB82D68C8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4BA6-28EA-4D6F-B612-4F3AFA769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operation and Collaboration</a:t>
            </a:r>
            <a:br>
              <a:rPr sz="2800"/>
            </a:b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1B74-CAF8-42FA-8A08-AA91D6DD4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ILRI / ICARDA / ICRAF / IWMI / CIMM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EIAR, O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Addis Ababa, Bahir Dar, Arba Minch, Mekele Univers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 – Farm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Ga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7FC9-6D80-414C-9596-B484B8344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C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Other regional research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s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AGP etc. ATA,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AB5E-D43C-43B5-9920-89B0C4443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46:02Z</dcterms:modified>
  <cp:revision>79</cp:revision>
  <dc:subject/>
  <dc:title>PowerPoint Presentation</dc:title>
</cp:coreProperties>
</file>